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1B66-CD51-4B46-A498-E984F3FAC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6112-63BD-4D38-B4A3-D3A7763B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492B-A2F4-4081-9776-6575CE71E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8A51-2FCF-4531-9606-BCF1D3A4B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3035B-77A2-4434-BC55-E502F6073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537F-CB60-479B-B768-5E455B57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58B2-37DF-45A8-9CB8-667771D25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1D6F-0D0E-4620-95F3-AAF9C80FC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AE6B-2468-46E5-A13C-5A61B2F68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06A4-8071-4CE2-90E4-C929BAE3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9CB2-3F98-4C4C-9AE9-37336869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7E1F-E80F-4E0E-83E4-A4D34B8D2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A0251-B0DC-465C-A89F-AB08D5C5E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ACC8-2669-4454-9DFC-2121600D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01A3-FB53-473E-93AC-FD927E260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01C5-1CA0-48E3-BBCE-8B858096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45FA6-7315-4CE4-9155-8E13D582F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12C-61F0-4028-81EC-7719F84C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6F31-B059-43ED-ABDA-E53FB270B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4060-6DC3-499E-8C0B-1CE84567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6B9-318B-41D7-B9A3-E636D6E32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EFA1F-DC1C-4AFA-8E71-F375F41F9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7116-D8A2-4534-ABC0-77648790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FEB4-0CB4-46C0-86FC-AE42DB8E5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1027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2851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1028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52C4-6A37-4189-B566-477BF2590D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26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1027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2851cc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1028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C601-B414-49FF-A703-AF288D738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66"/>
                </a:solidFill>
                <a:latin typeface="Arial"/>
              </a:rPr>
              <a:t>Introduction to Power Point</a:t>
            </a:r>
            <a:endParaRPr b="0" lang="en-US" sz="4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4038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Tip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Rehearse Timings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Slide Show Tab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ing is recorded for each s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animation pa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iggers: On cli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tion Pane: More advance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Inserting Audio/Graphics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Insert Tab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– From fi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te-Trigge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de aud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ert – Pi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viously sav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french.mp3" descr=""/>
          <p:cNvPicPr/>
          <p:nvPr/>
        </p:nvPicPr>
        <p:blipFill>
          <a:blip r:embed="rId1"/>
          <a:stretch/>
        </p:blipFill>
        <p:spPr>
          <a:xfrm>
            <a:off x="849240" y="5410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46865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Keep It Simpl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ig Fo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over crow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n’t use too many word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ordinate background and text colo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ace your slide sh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hearse your Timing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eep it simple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Basic Inf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SCRIPT on sl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lides:  Very Little text in all FRENC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st of Ingredien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0ffff"/>
              </a:buClr>
              <a:buSzPct val="65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agram of Place Set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sentation: Automati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 Limits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666880" y="762120"/>
            <a:ext cx="4419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Make it </a:t>
            </a: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Big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12 Point Siz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6 Point Siz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 Point Siz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4 Point Siz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2 Point Siz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0 Point Siz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48 Point Siz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934320" y="304920"/>
            <a:ext cx="167616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80880" y="533520"/>
            <a:ext cx="99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4495680" y="50292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9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7920" y="533520"/>
            <a:ext cx="6781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Font Types and Colo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380880" y="1981080"/>
            <a:ext cx="8658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Use a basic font like Arial-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ld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-Clea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o not mix fonts-Sans seri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ackground and text col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pposit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raw Atten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440" y="19810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Times New Roman"/>
              </a:rPr>
              <a:t>Color</a:t>
            </a: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draw at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Italic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to draw atten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Image Color and Siz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52578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ictures add to cont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o many “cute” pictures are distract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lain difficult topic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3" name="Object 11"/>
          <p:cNvGraphicFramePr/>
          <p:nvPr/>
        </p:nvGraphicFramePr>
        <p:xfrm>
          <a:off x="5715000" y="2963880"/>
          <a:ext cx="3124080" cy="296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2963880"/>
                    <a:ext cx="3124080" cy="296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5" name="Group 18"/>
          <p:cNvGrpSpPr/>
          <p:nvPr/>
        </p:nvGrpSpPr>
        <p:grpSpPr>
          <a:xfrm>
            <a:off x="5334120" y="2971800"/>
            <a:ext cx="3276000" cy="3123720"/>
            <a:chOff x="5334120" y="2971800"/>
            <a:chExt cx="3276000" cy="3123720"/>
          </a:xfrm>
        </p:grpSpPr>
        <p:sp>
          <p:nvSpPr>
            <p:cNvPr id="106" name="Rectangle 12"/>
            <p:cNvSpPr/>
            <p:nvPr/>
          </p:nvSpPr>
          <p:spPr>
            <a:xfrm>
              <a:off x="5334120" y="2971800"/>
              <a:ext cx="86040" cy="9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Rectangle 13"/>
            <p:cNvSpPr/>
            <p:nvPr/>
          </p:nvSpPr>
          <p:spPr>
            <a:xfrm>
              <a:off x="6799680" y="2971800"/>
              <a:ext cx="86040" cy="9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Rectangle 14"/>
            <p:cNvSpPr/>
            <p:nvPr/>
          </p:nvSpPr>
          <p:spPr>
            <a:xfrm>
              <a:off x="8524440" y="2971800"/>
              <a:ext cx="85680" cy="9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Rectangle 15"/>
            <p:cNvSpPr/>
            <p:nvPr/>
          </p:nvSpPr>
          <p:spPr>
            <a:xfrm>
              <a:off x="5420160" y="4533480"/>
              <a:ext cx="85680" cy="9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Rectangle 17"/>
            <p:cNvSpPr/>
            <p:nvPr/>
          </p:nvSpPr>
          <p:spPr>
            <a:xfrm>
              <a:off x="5506200" y="6004080"/>
              <a:ext cx="86040" cy="9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Rectangle 55"/>
          <p:cNvSpPr/>
          <p:nvPr/>
        </p:nvSpPr>
        <p:spPr>
          <a:xfrm rot="10800000">
            <a:off x="8610480" y="617220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Rectangle 56"/>
          <p:cNvSpPr/>
          <p:nvPr/>
        </p:nvSpPr>
        <p:spPr>
          <a:xfrm rot="10800000">
            <a:off x="7162560" y="6095880"/>
            <a:ext cx="7596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Rectangle 58"/>
          <p:cNvSpPr/>
          <p:nvPr/>
        </p:nvSpPr>
        <p:spPr>
          <a:xfrm rot="10800000">
            <a:off x="8686800" y="4267080"/>
            <a:ext cx="76320" cy="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AutoShape 60"/>
          <p:cNvSpPr/>
          <p:nvPr/>
        </p:nvSpPr>
        <p:spPr>
          <a:xfrm>
            <a:off x="8229600" y="1600200"/>
            <a:ext cx="457200" cy="1219320"/>
          </a:xfrm>
          <a:prstGeom prst="downArrow">
            <a:avLst>
              <a:gd name="adj1" fmla="val 50000"/>
              <a:gd name="adj2" fmla="val 66673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Picture 1029" descr="00award_sm"/>
          <p:cNvPicPr/>
          <p:nvPr/>
        </p:nvPicPr>
        <p:blipFill>
          <a:blip r:embed="rId3"/>
          <a:stretch/>
        </p:blipFill>
        <p:spPr>
          <a:xfrm>
            <a:off x="457200" y="7238880"/>
            <a:ext cx="3505320" cy="2749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BS00360_"/>
          <p:cNvPicPr/>
          <p:nvPr/>
        </p:nvPicPr>
        <p:blipFill>
          <a:blip r:embed="rId4"/>
          <a:stretch/>
        </p:blipFill>
        <p:spPr>
          <a:xfrm>
            <a:off x="457200" y="4800600"/>
            <a:ext cx="3166920" cy="16653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6 -0.16694 L 0.01666 -0.49989 E">
                                      <p:cBhvr>
                                        <p:cTn id="6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6 X 7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 more than six lines on each slid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maximum of 7-10 word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nimations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ab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w the text/graphic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the slid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of Entr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762120" y="312408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the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/sub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Emphas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838800" y="4114800"/>
            <a:ext cx="4700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combine too man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of Exi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6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9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3581280" y="1600200"/>
            <a:ext cx="3429000" cy="1295280"/>
          </a:xfrm>
          <a:prstGeom prst="irregularSeal1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Transitions</a:t>
            </a:r>
            <a:br>
              <a:rPr sz="4400"/>
            </a:br>
            <a:r>
              <a:rPr b="0" lang="en-US" sz="3200" spc="-1" strike="noStrike">
                <a:solidFill>
                  <a:srgbClr val="ffcc66"/>
                </a:solidFill>
                <a:latin typeface="Arial"/>
              </a:rPr>
              <a:t>Tab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ment fro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ide to s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it simple/subt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17:13:00Z</dcterms:created>
  <dc:creator>CLMS</dc:creator>
  <dc:description/>
  <dc:language>en-US</dc:language>
  <cp:lastModifiedBy>RShine</cp:lastModifiedBy>
  <dcterms:modified xsi:type="dcterms:W3CDTF">2013-03-17T16:11:06Z</dcterms:modified>
  <cp:revision>52</cp:revision>
  <dc:subject/>
  <dc:title>Introduction to Power Point</dc:title>
</cp:coreProperties>
</file>